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CF5-C92E-4587-9AE8-76C3465D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24D-35AD-4D23-A4D0-6502390E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DC2-E0B9-4038-8BE3-EBEB8B11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117-38FB-45F6-AC94-24FA345D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A42-4C87-4164-AEAA-5F4F5607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236-7ABE-496A-95B4-18677FBA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7F6-2250-4FDA-8992-82DE7FAA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42F-76A8-4623-9070-FF110246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2E1-B318-4F97-BF5A-25E1125A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178-7B66-4E14-B080-650EB53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8D3-7AB0-481B-8F58-33D256F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0C9-8113-4AC8-AABA-0180B7D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6186-3F43-4D1F-8367-E115F548F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user interfaces and effective information architecture of web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rchitecture describes how a website is structured in terms of how the content is organised (or grouped, what information is included and where it is located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navigation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from design elements of onscree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 might be attractively designed however it may have ineffective informatio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Quality User-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, where user interacts with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, is screen, etc; software is operating system &amp; appl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following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le and accessible, (user interacts intuitively); clear, planned &amp; logical; screen layout not unnecessarily elaborate or dec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selection, 2 type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ility for all users, eg. people with disabilities can access; eg. use of ALT text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acce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ness &amp; relevance; meets needs of intended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Quality User-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3:45:16Z</dcterms:created>
  <dc:creator>T01421606</dc:creator>
  <dc:description/>
  <dc:language>en-US</dc:language>
  <cp:lastModifiedBy>Kelvin Baird</cp:lastModifiedBy>
  <dcterms:modified xsi:type="dcterms:W3CDTF">2007-04-09T02:54:42Z</dcterms:modified>
  <cp:revision>5</cp:revision>
  <dc:subject/>
  <dc:title>Components of Computer System:  </dc:title>
</cp:coreProperties>
</file>